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4623-5224-496B-AC61-F9DA8AAF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C233-E951-4B90-B44A-FD87D7EB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6DAF-6572-463B-9434-A58F8710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5EB4-57A6-4FBF-B1A2-03673695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A855-6283-46D0-B6BE-44310FE4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106F-CE26-4337-9E22-0A67521C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D903-C88A-446F-B789-FAC49959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DBAF-54E8-4C9B-BFE6-590289BB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4653-264A-4674-B661-6DD55308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28DA-5284-45BE-AC71-FBC21082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F773-8E9A-4ED8-A48D-AB48A313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93B3-995B-4941-8659-16432AB1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3A40-4F57-457C-8CD3-4BFED605F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fe Cycle of the Butterfl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62320" y="2133360"/>
            <a:ext cx="4152960" cy="603396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8" descr="C:\Users\dwilliams2\AppData\Local\Microsoft\Windows\Temporary Internet Files\Content.IE5\WGVGCCAF\MC900438041[1].png"/>
          <p:cNvPicPr/>
          <p:nvPr/>
        </p:nvPicPr>
        <p:blipFill>
          <a:blip r:embed="rId1"/>
          <a:stretch/>
        </p:blipFill>
        <p:spPr>
          <a:xfrm>
            <a:off x="5486400" y="-60480"/>
            <a:ext cx="13716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5"/>
          <p:cNvGrpSpPr/>
          <p:nvPr/>
        </p:nvGrpSpPr>
        <p:grpSpPr>
          <a:xfrm>
            <a:off x="289080" y="1752480"/>
            <a:ext cx="1904760" cy="6731640"/>
            <a:chOff x="289080" y="1752480"/>
            <a:chExt cx="1904760" cy="6731640"/>
          </a:xfrm>
        </p:grpSpPr>
        <p:pic>
          <p:nvPicPr>
            <p:cNvPr id="45" name="Picture 32" descr="http://www.enchantedlearning.com/bgifs/Bflyegg.GIF"/>
            <p:cNvPicPr/>
            <p:nvPr/>
          </p:nvPicPr>
          <p:blipFill>
            <a:blip r:embed="rId2"/>
            <a:stretch/>
          </p:blipFill>
          <p:spPr>
            <a:xfrm>
              <a:off x="485640" y="1752480"/>
              <a:ext cx="132372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34" descr="C:\Users\dwilliams2\AppData\Local\Microsoft\Windows\Temporary Internet Files\Content.IE5\ES5BI6NL\MC900438038[1].png"/>
            <p:cNvPicPr/>
            <p:nvPr/>
          </p:nvPicPr>
          <p:blipFill>
            <a:blip r:embed="rId3"/>
            <a:stretch/>
          </p:blipFill>
          <p:spPr>
            <a:xfrm>
              <a:off x="361800" y="2971800"/>
              <a:ext cx="144756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36" descr="Closeup picture of a green monarch butterfly chrysalis."/>
            <p:cNvPicPr/>
            <p:nvPr/>
          </p:nvPicPr>
          <p:blipFill>
            <a:blip r:embed="rId4"/>
            <a:stretch/>
          </p:blipFill>
          <p:spPr>
            <a:xfrm>
              <a:off x="666720" y="4648320"/>
              <a:ext cx="838080" cy="14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37" descr="C:\Users\dwilliams2\AppData\Local\Microsoft\Windows\Temporary Internet Files\Content.IE5\2DC45C48\MP900444860[1].jpg"/>
            <p:cNvPicPr/>
            <p:nvPr/>
          </p:nvPicPr>
          <p:blipFill>
            <a:blip r:embed="rId5"/>
            <a:stretch/>
          </p:blipFill>
          <p:spPr>
            <a:xfrm>
              <a:off x="289080" y="6629760"/>
              <a:ext cx="190476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Box 1"/>
            <p:cNvSpPr/>
            <p:nvPr/>
          </p:nvSpPr>
          <p:spPr>
            <a:xfrm>
              <a:off x="671040" y="2743200"/>
              <a:ext cx="50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g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Box 2"/>
            <p:cNvSpPr/>
            <p:nvPr/>
          </p:nvSpPr>
          <p:spPr>
            <a:xfrm>
              <a:off x="538920" y="4038480"/>
              <a:ext cx="11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terpilla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Box 3"/>
            <p:cNvSpPr/>
            <p:nvPr/>
          </p:nvSpPr>
          <p:spPr>
            <a:xfrm>
              <a:off x="612720" y="6131880"/>
              <a:ext cx="99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rysali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Box 4"/>
            <p:cNvSpPr/>
            <p:nvPr/>
          </p:nvSpPr>
          <p:spPr>
            <a:xfrm>
              <a:off x="495720" y="8115840"/>
              <a:ext cx="154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ult Butterfl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01:17:38Z</dcterms:created>
  <dc:creator>Deborah Williams</dc:creator>
  <dc:description/>
  <dc:language>en-US</dc:language>
  <cp:lastModifiedBy>344-student</cp:lastModifiedBy>
  <dcterms:modified xsi:type="dcterms:W3CDTF">2012-10-15T17:30:44Z</dcterms:modified>
  <cp:revision>10</cp:revision>
  <dc:subject/>
  <dc:title>PowerPoint Presentation</dc:title>
</cp:coreProperties>
</file>